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041120" y="249120"/>
            <a:ext cx="10922040" cy="101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3364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4265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0411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73364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4265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041120" y="249120"/>
            <a:ext cx="10922040" cy="101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265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411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3364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265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3364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4265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0411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73364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4265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041120" y="249120"/>
            <a:ext cx="10922040" cy="101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3364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4265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0411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73364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84265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041120" y="249120"/>
            <a:ext cx="10922040" cy="101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3364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4265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0411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73364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4265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041120" y="249120"/>
            <a:ext cx="10922040" cy="101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3364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4265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0411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73364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4265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041120" y="249120"/>
            <a:ext cx="10922040" cy="101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3364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4265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10411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73364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4265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041120" y="249120"/>
            <a:ext cx="10922040" cy="101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1120" y="249120"/>
            <a:ext cx="10922040" cy="101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3364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4265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0411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3364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4265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041120" y="249120"/>
            <a:ext cx="10922040" cy="101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3364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4265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10411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473364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84265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3364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265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411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3364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265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41120" y="249120"/>
            <a:ext cx="10922040" cy="101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364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4265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0411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73364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4265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41120" y="249120"/>
            <a:ext cx="10922040" cy="101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3364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4265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411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73364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4265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041120" y="249120"/>
            <a:ext cx="10922040" cy="101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1120" y="249120"/>
            <a:ext cx="10922040" cy="101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3364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4265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0411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73364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4265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041120" y="249120"/>
            <a:ext cx="10922040" cy="101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3364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4265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0411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73364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4265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041120" y="249120"/>
            <a:ext cx="10922040" cy="101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3364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4265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0411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73364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4265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041120" y="249120"/>
            <a:ext cx="10922040" cy="101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041120" y="5771160"/>
            <a:ext cx="1092204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7680" y="234900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04112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37680" y="5771160"/>
            <a:ext cx="532980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3364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426520" y="234900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0411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73364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426520" y="5771160"/>
            <a:ext cx="3516480" cy="312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86364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30824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75248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19708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19708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19708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1120" y="-360"/>
            <a:ext cx="10922040" cy="2692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041120" y="2768760"/>
            <a:ext cx="109220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86364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30824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75248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19708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19708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19708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"/>
          <p:cNvPicPr/>
          <p:nvPr/>
        </p:nvPicPr>
        <p:blipFill>
          <a:blip r:embed="rId3"/>
          <a:stretch/>
        </p:blipFill>
        <p:spPr>
          <a:xfrm>
            <a:off x="1003320" y="8064360"/>
            <a:ext cx="10998360" cy="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" descr=""/>
          <p:cNvPicPr/>
          <p:nvPr/>
        </p:nvPicPr>
        <p:blipFill>
          <a:blip r:embed="rId3"/>
          <a:stretch/>
        </p:blipFill>
        <p:spPr>
          <a:xfrm>
            <a:off x="1003320" y="8064360"/>
            <a:ext cx="10998360" cy="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41120" y="341280"/>
            <a:ext cx="10922040" cy="20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09920" y="2349000"/>
            <a:ext cx="49532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52560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79452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20348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61208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02104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02104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02104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41120" y="341280"/>
            <a:ext cx="10922040" cy="20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1041480" y="2349000"/>
            <a:ext cx="495288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52560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79452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20348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61208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02104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02104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02104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1120" y="341280"/>
            <a:ext cx="10922040" cy="20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1041480" y="2349000"/>
            <a:ext cx="495288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52560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79452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20348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61208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02104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02104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021040" indent="-52560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0"/>
            <a:ext cx="11709360" cy="2016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7760" y="0"/>
            <a:ext cx="11049120" cy="5200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marL="254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77760" y="5384520"/>
            <a:ext cx="11049120" cy="4368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 fontScale="93000"/>
          </a:bodyPr>
          <a:p>
            <a:pPr marL="824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666666"/>
              </a:solidFill>
              <a:latin typeface="Arial"/>
            </a:endParaRPr>
          </a:p>
          <a:p>
            <a:pPr lvl="1" marL="82440" indent="-82440" algn="ctr">
              <a:buClr>
                <a:srgbClr val="6666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666666"/>
              </a:solidFill>
              <a:latin typeface="Arial"/>
            </a:endParaRPr>
          </a:p>
          <a:p>
            <a:pPr lvl="2" marL="82440" indent="-82440" algn="ctr">
              <a:buClr>
                <a:srgbClr val="6666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666666"/>
              </a:solidFill>
              <a:latin typeface="Arial"/>
            </a:endParaRPr>
          </a:p>
          <a:p>
            <a:pPr lvl="3" marL="82440" indent="-82440" algn="ctr">
              <a:buClr>
                <a:srgbClr val="6666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666666"/>
              </a:solidFill>
              <a:latin typeface="Arial"/>
            </a:endParaRPr>
          </a:p>
          <a:p>
            <a:pPr lvl="4" marL="82440" indent="-82440" algn="ctr"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666666"/>
              </a:solidFill>
              <a:latin typeface="Arial"/>
            </a:endParaRPr>
          </a:p>
          <a:p>
            <a:pPr lvl="5" marL="82440" indent="-824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666666"/>
              </a:solidFill>
              <a:latin typeface="Arial"/>
            </a:endParaRPr>
          </a:p>
          <a:p>
            <a:pPr lvl="6" marL="82440" indent="-824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1120" y="2082960"/>
            <a:ext cx="10922040" cy="5892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041120" y="8292600"/>
            <a:ext cx="109220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5000"/>
          </a:bodyPr>
          <a:p>
            <a:pPr marL="1540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154080" indent="-154080" algn="ctr">
              <a:buClr>
                <a:srgbClr val="49433e"/>
              </a:buClr>
              <a:buFont typeface="Bradley Hand ITC TT-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54080" indent="-154080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54080" indent="-154080" algn="ctr">
              <a:buClr>
                <a:srgbClr val="49433e"/>
              </a:buClr>
              <a:buFont typeface="Bradley Hand ITC TT-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154080" indent="-154080" algn="ctr">
              <a:buClr>
                <a:srgbClr val="49433e"/>
              </a:buClr>
              <a:buFont typeface="Bradley Hand ITC TT-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154080" indent="-154080" algn="ctr">
              <a:buClr>
                <a:srgbClr val="49433e"/>
              </a:buClr>
              <a:buFont typeface="Bradley Hand ITC TT-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154080" indent="-154080" algn="ctr">
              <a:buClr>
                <a:srgbClr val="49433e"/>
              </a:buClr>
              <a:buFont typeface="Bradley Hand ITC TT-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1003320" y="811548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1120" y="414360"/>
            <a:ext cx="10922040" cy="186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2971800"/>
            <a:ext cx="109220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1120" y="0"/>
            <a:ext cx="10922040" cy="513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041120" y="5244840"/>
            <a:ext cx="10922040" cy="450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343080" indent="-343080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343080" indent="-343080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343080" indent="-343080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343080" indent="-343080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343080" indent="-343080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343080" indent="-343080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1041120" y="1828440"/>
            <a:ext cx="10922040" cy="609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491400" indent="-491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742680" indent="-491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125000" indent="-491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50696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188928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188928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188928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Bell Ringer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9433e"/>
                </a:solidFill>
                <a:latin typeface="Bradley Hand ITC TT-Bold"/>
              </a:rPr>
              <a:t>Why do you believe people of India were so attracted to the hindu religion?</a:t>
            </a:r>
            <a:endParaRPr b="0" lang="en-US" sz="4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1120" y="249120"/>
            <a:ext cx="10922040" cy="219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TOC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PG 11: Journal 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Pg 12: Caste c-n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1" descr=""/>
          <p:cNvPicPr/>
          <p:nvPr/>
        </p:nvPicPr>
        <p:blipFill>
          <a:blip r:embed="rId1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1041120" y="2441520"/>
            <a:ext cx="10922040" cy="6367680"/>
          </a:xfrm>
          <a:prstGeom prst="rect">
            <a:avLst/>
          </a:prstGeom>
          <a:noFill/>
          <a:ln w="0">
            <a:noFill/>
          </a:ln>
        </p:spPr>
        <p:txBody>
          <a:bodyPr lIns="0" rIns="1080" tIns="0" bIns="0" anchor="ctr">
            <a:normAutofit/>
          </a:bodyPr>
          <a:p>
            <a:pPr marL="355680">
              <a:lnSpc>
                <a:spcPct val="93000"/>
              </a:lnSpc>
              <a:buClr>
                <a:srgbClr val="000000"/>
              </a:buClr>
              <a:buSzPct val="56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Arial Bold"/>
                <a:ea typeface="Arial Bold"/>
              </a:rPr>
              <a:t>Indo-European Aryans invaded India in 1500 BC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55680">
              <a:lnSpc>
                <a:spcPct val="93000"/>
              </a:lnSpc>
              <a:buClr>
                <a:srgbClr val="000000"/>
              </a:buClr>
              <a:buSzPct val="56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old"/>
                <a:ea typeface="Arial Bold"/>
              </a:rPr>
              <a:t>They were warrior people who established control and began to 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55680" indent="0">
              <a:lnSpc>
                <a:spcPct val="93000"/>
              </a:lnSpc>
              <a:buNone/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old"/>
                <a:ea typeface="Arial Bold"/>
              </a:rPr>
              <a:t>restructure Indian social classifications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55680">
              <a:lnSpc>
                <a:spcPct val="93000"/>
              </a:lnSpc>
              <a:buClr>
                <a:srgbClr val="000000"/>
              </a:buClr>
              <a:buSzPct val="56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Arial Bold"/>
                <a:ea typeface="Arial Bold"/>
              </a:rPr>
              <a:t>Under their influence Indian people were divided into 5 different social groups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11" name="Rectangle 3"/>
          <p:cNvSpPr/>
          <p:nvPr/>
        </p:nvSpPr>
        <p:spPr>
          <a:xfrm>
            <a:off x="2694240" y="1210680"/>
            <a:ext cx="763704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240" tIns="0" bIns="0" anchor="ctr">
            <a:spAutoFit/>
          </a:bodyPr>
          <a:p>
            <a:pPr marL="38160" algn="ctr">
              <a:lnSpc>
                <a:spcPct val="93000"/>
              </a:lnSpc>
              <a:tabLst>
                <a:tab algn="l" pos="0"/>
                <a:tab algn="l" pos="38160"/>
                <a:tab algn="l" pos="495360"/>
                <a:tab algn="l" pos="952560"/>
                <a:tab algn="l" pos="1409760"/>
                <a:tab algn="l" pos="1866960"/>
                <a:tab algn="l" pos="2324160"/>
                <a:tab algn="l" pos="2781360"/>
                <a:tab algn="l" pos="3238560"/>
                <a:tab algn="l" pos="3695760"/>
                <a:tab algn="l" pos="4152960"/>
                <a:tab algn="l" pos="4610160"/>
                <a:tab algn="l" pos="5067360"/>
                <a:tab algn="l" pos="5524560"/>
                <a:tab algn="l" pos="5981760"/>
                <a:tab algn="l" pos="6438960"/>
                <a:tab algn="l" pos="6896160"/>
                <a:tab algn="l" pos="7353360"/>
                <a:tab algn="l" pos="7810560"/>
                <a:tab algn="l" pos="8267760"/>
                <a:tab algn="l" pos="8724960"/>
                <a:tab algn="l" pos="9182160"/>
                <a:tab algn="l" pos="10058400"/>
              </a:tabLst>
            </a:pPr>
            <a:r>
              <a:rPr b="0" lang="en-US" sz="4600" spc="-1" strike="noStrike">
                <a:solidFill>
                  <a:srgbClr val="003dcc"/>
                </a:solidFill>
                <a:latin typeface="Arial Bold"/>
                <a:ea typeface="Arial Bold"/>
              </a:rPr>
              <a:t>Origins of the Caste System</a:t>
            </a:r>
            <a:endParaRPr b="0" lang="en-US" sz="46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1" descr=""/>
          <p:cNvPicPr/>
          <p:nvPr/>
        </p:nvPicPr>
        <p:blipFill>
          <a:blip r:embed="rId1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41120" y="341280"/>
            <a:ext cx="10922040" cy="2008080"/>
          </a:xfrm>
          <a:prstGeom prst="rect">
            <a:avLst/>
          </a:prstGeom>
          <a:noFill/>
          <a:ln w="0">
            <a:noFill/>
          </a:ln>
        </p:spPr>
        <p:txBody>
          <a:bodyPr lIns="0" rIns="1080" tIns="0" bIns="0" anchor="ctr">
            <a:noAutofit/>
          </a:bodyPr>
          <a:p>
            <a:pPr marL="50760" indent="0" algn="ctr">
              <a:lnSpc>
                <a:spcPct val="93000"/>
              </a:lnSpc>
              <a:buNone/>
              <a:tabLst>
                <a:tab algn="l" pos="0"/>
                <a:tab algn="l" pos="88920"/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10109160"/>
                <a:tab algn="l" pos="11010960"/>
              </a:tabLst>
            </a:pPr>
            <a:r>
              <a:rPr b="0" lang="en-US" sz="4600" spc="-1" strike="noStrike">
                <a:solidFill>
                  <a:srgbClr val="003dcc"/>
                </a:solidFill>
                <a:latin typeface="Arial Bold"/>
                <a:ea typeface="Arial Bold"/>
              </a:rPr>
              <a:t> </a:t>
            </a:r>
            <a:r>
              <a:rPr b="0" lang="en-US" sz="4600" spc="-1" strike="noStrike">
                <a:solidFill>
                  <a:srgbClr val="003dcc"/>
                </a:solidFill>
                <a:latin typeface="Arial Bold"/>
                <a:ea typeface="Arial Bold"/>
              </a:rPr>
              <a:t>Brahmins</a:t>
            </a:r>
            <a:endParaRPr b="0" lang="en-US" sz="46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1080" tIns="0" bIns="0" anchor="ctr">
            <a:normAutofit/>
          </a:bodyPr>
          <a:p>
            <a:pPr marL="355680">
              <a:lnSpc>
                <a:spcPct val="93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old"/>
                <a:ea typeface="Arial Bold"/>
              </a:rPr>
              <a:t>Members of the highest caste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55680">
              <a:lnSpc>
                <a:spcPct val="93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Arial Bold"/>
                <a:ea typeface="Arial Bold"/>
              </a:rPr>
              <a:t>Priests and teachers of Sanskrit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55680">
              <a:lnSpc>
                <a:spcPct val="93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Arial Bold"/>
                <a:ea typeface="Arial Bold"/>
              </a:rPr>
              <a:t>Performed religious duties and preached Dharma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55680">
              <a:lnSpc>
                <a:spcPct val="93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Arial Bold"/>
                <a:ea typeface="Arial Bold"/>
              </a:rPr>
              <a:t>Only caste allowed to teach and attend school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615" name="Picture 4" descr=""/>
          <p:cNvPicPr/>
          <p:nvPr/>
        </p:nvPicPr>
        <p:blipFill>
          <a:blip r:embed="rId2"/>
          <a:stretch/>
        </p:blipFill>
        <p:spPr>
          <a:xfrm>
            <a:off x="9321840" y="3340080"/>
            <a:ext cx="32385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1" descr=""/>
          <p:cNvPicPr/>
          <p:nvPr/>
        </p:nvPicPr>
        <p:blipFill>
          <a:blip r:embed="rId1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41120" y="341280"/>
            <a:ext cx="10922040" cy="2008080"/>
          </a:xfrm>
          <a:prstGeom prst="rect">
            <a:avLst/>
          </a:prstGeom>
          <a:noFill/>
          <a:ln w="0">
            <a:noFill/>
          </a:ln>
        </p:spPr>
        <p:txBody>
          <a:bodyPr lIns="0" rIns="1080" tIns="0" bIns="0" anchor="ctr">
            <a:noAutofit/>
          </a:bodyPr>
          <a:p>
            <a:pPr marL="50760" indent="0" algn="ctr">
              <a:lnSpc>
                <a:spcPct val="93000"/>
              </a:lnSpc>
              <a:buNone/>
              <a:tabLst>
                <a:tab algn="l" pos="0"/>
                <a:tab algn="l" pos="88920"/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10109160"/>
                <a:tab algn="l" pos="11010960"/>
              </a:tabLst>
            </a:pPr>
            <a:r>
              <a:rPr b="0" lang="en-US" sz="4600" spc="-1" strike="noStrike">
                <a:solidFill>
                  <a:srgbClr val="003dcc"/>
                </a:solidFill>
                <a:latin typeface="Arial Bold"/>
                <a:ea typeface="Arial Bold"/>
              </a:rPr>
              <a:t>Kshatriya</a:t>
            </a:r>
            <a:endParaRPr b="0" lang="en-US" sz="46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1080" tIns="0" bIns="0" anchor="ctr">
            <a:normAutofit/>
          </a:bodyPr>
          <a:p>
            <a:pPr marL="355680">
              <a:lnSpc>
                <a:spcPct val="93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old"/>
                <a:ea typeface="Arial Bold"/>
              </a:rPr>
              <a:t>Ranked below the Brahmins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55680">
              <a:lnSpc>
                <a:spcPct val="93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Arial Bold"/>
                <a:ea typeface="Arial Bold"/>
              </a:rPr>
              <a:t>Functioned as warriors or army leaders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55680">
              <a:lnSpc>
                <a:spcPct val="93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Arial Bold"/>
                <a:ea typeface="Arial Bold"/>
              </a:rPr>
              <a:t>A part of the military and ruling elite 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1" descr=""/>
          <p:cNvPicPr/>
          <p:nvPr/>
        </p:nvPicPr>
        <p:blipFill>
          <a:blip r:embed="rId1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41120" y="341280"/>
            <a:ext cx="10922040" cy="2008080"/>
          </a:xfrm>
          <a:prstGeom prst="rect">
            <a:avLst/>
          </a:prstGeom>
          <a:noFill/>
          <a:ln w="0">
            <a:noFill/>
          </a:ln>
        </p:spPr>
        <p:txBody>
          <a:bodyPr lIns="0" rIns="1080" tIns="0" bIns="0" anchor="ctr">
            <a:noAutofit/>
          </a:bodyPr>
          <a:p>
            <a:pPr marL="50760" indent="0" algn="ctr">
              <a:lnSpc>
                <a:spcPct val="93000"/>
              </a:lnSpc>
              <a:buNone/>
              <a:tabLst>
                <a:tab algn="l" pos="0"/>
                <a:tab algn="l" pos="88920"/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10109160"/>
                <a:tab algn="l" pos="11010960"/>
              </a:tabLst>
            </a:pPr>
            <a:r>
              <a:rPr b="0" lang="en-US" sz="4600" spc="-1" strike="noStrike">
                <a:solidFill>
                  <a:srgbClr val="003dcc"/>
                </a:solidFill>
                <a:latin typeface="Arial Bold"/>
                <a:ea typeface="Arial Bold"/>
              </a:rPr>
              <a:t>Vaishyas</a:t>
            </a:r>
            <a:endParaRPr b="0" lang="en-US" sz="46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1080" tIns="0" bIns="0" anchor="ctr">
            <a:normAutofit/>
          </a:bodyPr>
          <a:p>
            <a:pPr marL="355680">
              <a:lnSpc>
                <a:spcPct val="93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old"/>
                <a:ea typeface="Arial Bold"/>
              </a:rPr>
              <a:t>Below the Kshatriya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55680">
              <a:lnSpc>
                <a:spcPct val="93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40800"/>
                </a:solidFill>
                <a:latin typeface="Arial Bold"/>
                <a:ea typeface="Arial Bold"/>
              </a:rPr>
              <a:t>Traders, cattle farmers, minor officials, merchants and artisans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55680">
              <a:lnSpc>
                <a:spcPct val="93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40800"/>
                </a:solidFill>
                <a:latin typeface="Arial Bold"/>
                <a:ea typeface="Arial Bold"/>
              </a:rPr>
              <a:t>Owned their own business or farm land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1" descr=""/>
          <p:cNvPicPr/>
          <p:nvPr/>
        </p:nvPicPr>
        <p:blipFill>
          <a:blip r:embed="rId1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41120" y="341280"/>
            <a:ext cx="10922040" cy="2008080"/>
          </a:xfrm>
          <a:prstGeom prst="rect">
            <a:avLst/>
          </a:prstGeom>
          <a:noFill/>
          <a:ln w="0">
            <a:noFill/>
          </a:ln>
        </p:spPr>
        <p:txBody>
          <a:bodyPr lIns="0" rIns="1080" tIns="0" bIns="0" anchor="ctr">
            <a:noAutofit/>
          </a:bodyPr>
          <a:p>
            <a:pPr marL="50760" indent="0" algn="ctr">
              <a:lnSpc>
                <a:spcPct val="93000"/>
              </a:lnSpc>
              <a:buNone/>
              <a:tabLst>
                <a:tab algn="l" pos="0"/>
                <a:tab algn="l" pos="88920"/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10109160"/>
                <a:tab algn="l" pos="11010960"/>
              </a:tabLst>
            </a:pPr>
            <a:r>
              <a:rPr b="0" lang="en-US" sz="4600" spc="-1" strike="noStrike">
                <a:solidFill>
                  <a:srgbClr val="003dcc"/>
                </a:solidFill>
                <a:latin typeface="Arial Bold"/>
                <a:ea typeface="Arial Bold"/>
              </a:rPr>
              <a:t>Sudras</a:t>
            </a:r>
            <a:endParaRPr b="0" lang="en-US" sz="46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1080" tIns="0" bIns="0" anchor="ctr">
            <a:normAutofit/>
          </a:bodyPr>
          <a:p>
            <a:pPr marL="355680">
              <a:lnSpc>
                <a:spcPct val="93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old"/>
                <a:ea typeface="Arial Bold"/>
              </a:rPr>
              <a:t>Below the Vaishyas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55680">
              <a:lnSpc>
                <a:spcPct val="93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Arial Bold"/>
                <a:ea typeface="Arial Bold"/>
              </a:rPr>
              <a:t>Servants and farmhands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55680">
              <a:lnSpc>
                <a:spcPct val="93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Arial Bold"/>
                <a:ea typeface="Arial Bold"/>
              </a:rPr>
              <a:t>Did not own their own land and businesses 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55680">
              <a:lnSpc>
                <a:spcPct val="93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Arial Bold"/>
                <a:ea typeface="Arial Bold"/>
              </a:rPr>
              <a:t>Were employed by members of higher castes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55680">
              <a:lnSpc>
                <a:spcPct val="93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old"/>
                <a:ea typeface="Arial Bold"/>
              </a:rPr>
              <a:t>The most populous caste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1" descr=""/>
          <p:cNvPicPr/>
          <p:nvPr/>
        </p:nvPicPr>
        <p:blipFill>
          <a:blip r:embed="rId1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41120" y="341280"/>
            <a:ext cx="10922040" cy="2008080"/>
          </a:xfrm>
          <a:prstGeom prst="rect">
            <a:avLst/>
          </a:prstGeom>
          <a:noFill/>
          <a:ln w="0">
            <a:noFill/>
          </a:ln>
        </p:spPr>
        <p:txBody>
          <a:bodyPr lIns="0" rIns="1080" tIns="0" bIns="0" anchor="ctr">
            <a:noAutofit/>
          </a:bodyPr>
          <a:p>
            <a:pPr marL="50760" indent="0" algn="ctr">
              <a:lnSpc>
                <a:spcPct val="93000"/>
              </a:lnSpc>
              <a:buNone/>
              <a:tabLst>
                <a:tab algn="l" pos="0"/>
                <a:tab algn="l" pos="88920"/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10109160"/>
                <a:tab algn="l" pos="11010960"/>
              </a:tabLst>
            </a:pPr>
            <a:r>
              <a:rPr b="0" lang="en-US" sz="4600" spc="-1" strike="noStrike">
                <a:solidFill>
                  <a:srgbClr val="003dcc"/>
                </a:solidFill>
                <a:latin typeface="Arial Bold"/>
                <a:ea typeface="Arial Bold"/>
              </a:rPr>
              <a:t>Untouchables</a:t>
            </a:r>
            <a:endParaRPr b="0" lang="en-US" sz="46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6551640"/>
          </a:xfrm>
          <a:prstGeom prst="rect">
            <a:avLst/>
          </a:prstGeom>
          <a:noFill/>
          <a:ln w="0">
            <a:noFill/>
          </a:ln>
        </p:spPr>
        <p:txBody>
          <a:bodyPr lIns="0" rIns="1080" tIns="0" bIns="0" anchor="ctr">
            <a:normAutofit/>
          </a:bodyPr>
          <a:p>
            <a:pPr marL="355680">
              <a:lnSpc>
                <a:spcPct val="93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old"/>
                <a:ea typeface="Arial Bold"/>
              </a:rPr>
              <a:t>Known as “untouchables”, “pariahs”, “the people”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55680">
              <a:lnSpc>
                <a:spcPct val="93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Arial Bold"/>
                <a:ea typeface="Arial Bold"/>
              </a:rPr>
              <a:t>Not even a caste, below all others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55680">
              <a:lnSpc>
                <a:spcPct val="93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Arial Bold"/>
                <a:ea typeface="Arial Bold"/>
              </a:rPr>
              <a:t>Responsible for handling the dead, cleaning up human waste, and collecting garbage  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1" descr=""/>
          <p:cNvPicPr/>
          <p:nvPr/>
        </p:nvPicPr>
        <p:blipFill>
          <a:blip r:embed="rId1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1120" y="287280"/>
            <a:ext cx="10922040" cy="2116080"/>
          </a:xfrm>
          <a:prstGeom prst="rect">
            <a:avLst/>
          </a:prstGeom>
          <a:noFill/>
          <a:ln w="0">
            <a:noFill/>
          </a:ln>
        </p:spPr>
        <p:txBody>
          <a:bodyPr lIns="0" rIns="1080" tIns="0" bIns="0" anchor="ctr">
            <a:noAutofit/>
          </a:bodyPr>
          <a:p>
            <a:pPr marL="50760" indent="0" algn="ctr">
              <a:lnSpc>
                <a:spcPct val="93000"/>
              </a:lnSpc>
              <a:buNone/>
              <a:tabLst>
                <a:tab algn="l" pos="0"/>
                <a:tab algn="l" pos="88920"/>
                <a:tab algn="l" pos="546120"/>
                <a:tab algn="l" pos="1003320"/>
                <a:tab algn="l" pos="1460520"/>
                <a:tab algn="l" pos="1917720"/>
                <a:tab algn="l" pos="2374920"/>
                <a:tab algn="l" pos="2832120"/>
                <a:tab algn="l" pos="3289320"/>
                <a:tab algn="l" pos="3746520"/>
                <a:tab algn="l" pos="4203720"/>
                <a:tab algn="l" pos="4660920"/>
                <a:tab algn="l" pos="5118120"/>
                <a:tab algn="l" pos="5575320"/>
                <a:tab algn="l" pos="6032520"/>
                <a:tab algn="l" pos="6489720"/>
                <a:tab algn="l" pos="6946920"/>
                <a:tab algn="l" pos="7404120"/>
                <a:tab algn="l" pos="7861320"/>
                <a:tab algn="l" pos="8318520"/>
                <a:tab algn="l" pos="8775720"/>
                <a:tab algn="l" pos="9232920"/>
                <a:tab algn="l" pos="10109160"/>
                <a:tab algn="l" pos="11010960"/>
              </a:tabLst>
            </a:pPr>
            <a:r>
              <a:rPr b="0" lang="en-US" sz="4600" spc="-1" strike="noStrike">
                <a:solidFill>
                  <a:srgbClr val="003dcc"/>
                </a:solidFill>
                <a:latin typeface="Arial Bold"/>
                <a:ea typeface="Arial Bold"/>
              </a:rPr>
              <a:t>The Caste System in Practice</a:t>
            </a:r>
            <a:endParaRPr b="0" lang="en-US" sz="46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1120" y="2403000"/>
            <a:ext cx="10922040" cy="6723000"/>
          </a:xfrm>
          <a:prstGeom prst="rect">
            <a:avLst/>
          </a:prstGeom>
          <a:noFill/>
          <a:ln w="0">
            <a:noFill/>
          </a:ln>
        </p:spPr>
        <p:txBody>
          <a:bodyPr lIns="0" rIns="1080" tIns="0" bIns="0" anchor="ctr">
            <a:normAutofit/>
          </a:bodyPr>
          <a:p>
            <a:pPr marL="355680">
              <a:lnSpc>
                <a:spcPct val="150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Arial Bold"/>
                <a:ea typeface="Arial Bold"/>
              </a:rPr>
              <a:t>Impossible to change castes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55680">
              <a:lnSpc>
                <a:spcPct val="150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Arial Bold"/>
                <a:ea typeface="Arial Bold"/>
              </a:rPr>
              <a:t>Caste status passed down through family generations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55680">
              <a:lnSpc>
                <a:spcPct val="150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Arial Bold"/>
                <a:ea typeface="Arial Bold"/>
              </a:rPr>
              <a:t>People from different castes could not marry, befriend, or eat with each other 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  <a:p>
            <a:pPr marL="355680">
              <a:lnSpc>
                <a:spcPct val="150000"/>
              </a:lnSpc>
              <a:buClr>
                <a:srgbClr val="000000"/>
              </a:buClr>
              <a:buSzPct val="43000"/>
              <a:buFont typeface="Wingdings" charset="2"/>
              <a:buChar char="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old"/>
                <a:ea typeface="Arial Bold"/>
              </a:rPr>
              <a:t>Castes were supported by religious texts</a:t>
            </a:r>
            <a:endParaRPr b="0" lang="en-US" sz="26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yler Daughtry</cp:lastModifiedBy>
  <cp:lastPrinted>2013-10-31T11:35:04Z</cp:lastPrinted>
  <dcterms:modified xsi:type="dcterms:W3CDTF">2013-10-31T12:53:20Z</dcterms:modified>
  <cp:revision>4</cp:revision>
  <dc:subject/>
  <dc:title>Bell Ringer</dc:title>
</cp:coreProperties>
</file>